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C1C-C84D-4202-B7CB-FCC92ED8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D6D-BD84-4246-948B-0047473D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580-B277-4221-AB6C-4A58B5D1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1DC-6C8E-4746-B903-88B98094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50D5-1785-431E-A610-493F93AE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6803-50B5-489A-8B18-806D2750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3091-6E56-4704-95B3-EAEB2FA8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A6C5-C557-4809-8BDC-7CAF0C90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EE86-E8A7-4589-9303-EC3F148C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79A3-701E-4407-A10F-5E8261B5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98C1-5CD5-4203-B0F2-5F48CC81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A4F-D968-4CFA-9011-C7C8E770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12D8-74F1-49D9-8BA4-5E7BEBDC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4AD0-CEAD-4FDE-851A-D654B533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19C8-1B54-476A-AAA1-F644063F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2B5F-02C2-41FE-9EDB-4DFF0C6C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3EF5-CB2A-4695-A724-EE6EAE41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405-28C9-43E0-85CD-76E0BF33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994-7B05-4831-B4DD-587C45BB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7CF-4F90-46BF-9DF4-5438811C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36F-93CE-4473-B7D7-A90021EF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045-0F81-4C60-A685-BFF2C5F3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D06-4896-4002-8E8F-3598B2F3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8AD-39CB-4C2D-89E0-5DA5E70A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6CC1-4342-42E6-BED6-DA9C3B6BB7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96CF-B991-4CE1-ACDE-BD58CC4AE8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y 2005 Updat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ming so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erkeleyDB backen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len Day’s template system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nit tes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VS Issue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emplate version on CVS HEA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asic functionality work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any advanced features not work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g fixes on 1.62-bugfixes branch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commended for end user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ill become 1.63 RS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431360" y="1828800"/>
            <a:ext cx="288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mon Ilyuschen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alitha Krishn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70640" y="4114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UC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Allen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1880" y="182880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05" t="28856" r="2830" b="13655"/>
          <a:stretch/>
        </p:blipFill>
        <p:spPr>
          <a:xfrm>
            <a:off x="838080" y="1824120"/>
            <a:ext cx="7751880" cy="3738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Recent Improvem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der of sections reorganiz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oup tracks by categ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pand/contract categori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lace plugins in menuba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ternal chang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ibraries refactored; easier to manage plugins, upload tracks, DAS tracks, improved Chado interface, GFF3 load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llapsible Sectio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410" t="14877" r="3433" b="5502"/>
          <a:stretch/>
        </p:blipFill>
        <p:spPr>
          <a:xfrm>
            <a:off x="228600" y="1609560"/>
            <a:ext cx="8915400" cy="5248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llapsible Sectio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410" t="14877" r="3433" b="5502"/>
          <a:stretch/>
        </p:blipFill>
        <p:spPr>
          <a:xfrm>
            <a:off x="304920" y="1654200"/>
            <a:ext cx="8839080" cy="5203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roupable Track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228600" y="152388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roupable Track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228600" y="152388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Menuable Plugi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304920" y="1600200"/>
            <a:ext cx="8839080" cy="5207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66880" y="2057400"/>
            <a:ext cx="2286000" cy="533520"/>
          </a:xfrm>
          <a:prstGeom prst="ellipse">
            <a:avLst/>
          </a:prstGeom>
          <a:noFill/>
          <a:ln w="12600">
            <a:solidFill>
              <a:srgbClr val="d57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More Glyph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557" t="14814" r="3644" b="3701"/>
          <a:stretch/>
        </p:blipFill>
        <p:spPr>
          <a:xfrm>
            <a:off x="533520" y="1523880"/>
            <a:ext cx="8381880" cy="5194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 </cp:lastModifiedBy>
  <cp:lastPrinted>1998-10-28T21:29:29Z</cp:lastPrinted>
  <dcterms:modified xsi:type="dcterms:W3CDTF">2005-05-16T18:46:05Z</dcterms:modified>
  <cp:revision>560</cp:revision>
  <dc:subject/>
  <dc:title>Training</dc:title>
</cp:coreProperties>
</file>